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679-C536-4EF3-B9FE-841789B1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733-EA8E-4596-82C7-3028A863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D09-58C4-4EB3-9553-833A4D91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0D3-5E37-4626-BB36-2F830C95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CA0-E6B8-4B68-A074-5E409D52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672-569A-4C27-A688-9C09EC0A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323-E9D0-4CDC-B0FF-C21C0E37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1F5-BECC-4DEA-9B08-3F215A08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75A-6F8A-422C-899A-B0A6356A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C3D-126A-48A2-A5BD-FDE3C172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647-84BB-4E1B-99DF-3519D30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419-054B-4B22-B0A6-8DDD040D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C526-A493-43FF-ABCC-00EB931A0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3917880"/>
            <a:ext cx="660600" cy="577800"/>
          </a:xfrm>
          <a:custGeom>
            <a:avLst/>
            <a:gdLst/>
            <a:ahLst/>
            <a:rect l="l" t="t" r="r" b="b"/>
            <a:pathLst>
              <a:path w="416" h="364">
                <a:moveTo>
                  <a:pt x="208" y="354"/>
                </a:moveTo>
                <a:lnTo>
                  <a:pt x="0" y="100"/>
                </a:lnTo>
                <a:lnTo>
                  <a:pt x="124" y="0"/>
                </a:lnTo>
                <a:lnTo>
                  <a:pt x="416" y="364"/>
                </a:lnTo>
              </a:path>
            </a:pathLst>
          </a:custGeom>
          <a:noFill/>
          <a:ln w="44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3240" y="4479840"/>
            <a:ext cx="314640" cy="149400"/>
          </a:xfrm>
          <a:custGeom>
            <a:avLst/>
            <a:gdLst/>
            <a:ahLst/>
            <a:rect l="l" t="t" r="r" b="b"/>
            <a:pathLst>
              <a:path w="198" h="94">
                <a:moveTo>
                  <a:pt x="198" y="2"/>
                </a:moveTo>
                <a:lnTo>
                  <a:pt x="78" y="94"/>
                </a:lnTo>
                <a:lnTo>
                  <a:pt x="0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15520" y="4049640"/>
            <a:ext cx="3102120" cy="9921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d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Tower Controlled Class 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lue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Restricte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4:04:19Z</dcterms:created>
  <dc:creator>HP Authorized Customer</dc:creator>
  <dc:description/>
  <dc:language>en-US</dc:language>
  <cp:lastModifiedBy>HP Authorized Customer</cp:lastModifiedBy>
  <dcterms:modified xsi:type="dcterms:W3CDTF">2006-03-04T20:22:48Z</dcterms:modified>
  <cp:revision>8</cp:revision>
  <dc:subject/>
  <dc:title>Slide 1</dc:title>
</cp:coreProperties>
</file>